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25968-4970-4F17-A368-F4A02BE1A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F8E18-5775-43C3-A4D8-5ED4CB83D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2E47E-07FB-41DE-A32C-4F7195FFF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C4DAD-750E-4ACC-9908-05D5B20B1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1B779-B22D-40A9-B747-1863B16CF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53B8E-1D32-48C2-A47D-DD0896347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AE337-55AF-4A9D-B66B-1594AA1BF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3871F-5F90-4DE3-8C34-82CCE1142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1302C-D827-43FD-AD18-BF15002F7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C4B38-AF5C-43B9-A866-1F1F149A9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D09F6-868B-43DF-8ACC-2640A8DAB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82B18-3CBF-4C0B-8CB2-EA984805B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CE77-5D1F-4A27-B71B-41633B603F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80880" y="1951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لاة البدء</a:t>
            </a:r>
            <a:r>
              <a:rPr b="0" lang="ar-SA" sz="3600" spc="-1" strike="noStrike">
                <a:solidFill>
                  <a:srgbClr val="ffffff"/>
                </a:solidFill>
                <a:latin typeface="Arial"/>
              </a:rPr>
              <a:t> : يتلوها الكاهن</a:t>
            </a:r>
            <a:r>
              <a:rPr b="0"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باسم الآب والإبن والروح القدس الإله الواح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ليك يا رب نرفع صلاتنا وطلباتنا في هذا الوقت، فاقبلها منا عربون شكر ومحبة على كل عطاياك ونِعَمِك التي تمنحنا إياها، وخاصة في هذا الزمن المبارك، زمن الصوم، زمن الرجوع الى الذات، زمن التوبة والإنتصار على الخطيئة التي تحجبنا عنك</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 رب، أن تدفقَ علينا روحك القدوس، ليعلّمَنا كيف نصوم، وكيف نلتقي بك بالآخرين، وبالتأمّل الدائم بالإنجيل، كلمة البشارة والخلاص. وإليك أيها الثالوث الأقدس المجد والشكر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533520" y="423720"/>
            <a:ext cx="830556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أيضاً إبليس الى جبلٍ عالٍ جداً وأراه جميع ممالك العالم ومجدها وقال له:" أعطيك هذه جميعها إن خَرَرْتَ وسجدتَ لي" حينئذٍ قال له يسوع:" إذهب يا شيطان، لأنه مكتوب : للرب إلهك  تسجد وإياه وحده تعبد" فتركه إبليس، وإذا ملائكة قد جاءت فصارت تخدمه</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حقّاً والأمان لجميعك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جماعة: المجد لك يا رب ، المجد لك</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جلوس</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دقيقة صمت</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228600" y="195120"/>
            <a:ext cx="8550360" cy="10518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أمل حول القراءة:</a:t>
            </a:r>
            <a:r>
              <a:rPr b="1" lang="ar-SA" sz="3600" spc="-1" strike="noStrike">
                <a:solidFill>
                  <a:srgbClr val="ffffff"/>
                </a:solidFill>
                <a:latin typeface="Arial"/>
              </a:rPr>
              <a:t> يتلوه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خبرنا هذا النص من الإنجيل عن تجربة يسوع في البرية وصومِه أربعين يوماً وأربعين ليلة، وكيف أن يسوع انتصر وأظهرَ لنا أن كل جمال هذا العالم وثرواتِه وممالكِه لا توازي كلمةً واحدة تخرج من فم الله، كلمة الحياة الحقة التي لا تزول.أمور كثيرة في العالم تُغري الإنسان، تجعله ينسى أنه مدعو الى الخلاص، الى نَيْلِ الحياة الأبدية. فيسوع يذكِّرُنا دائماً بكلمته لنا في الإنجيل :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علّمنا يا رب أن نلجأَ اليك وقت التجربة، فنقهر الشيطان ومغرياته، ونحيا حياة متحدة بك، واجعل صومَنا هذا مباركاً ومقدَّساً بحضورك معنا.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914400" y="17640"/>
            <a:ext cx="7315200" cy="6821280"/>
          </a:xfrm>
          <a:prstGeom prst="rect">
            <a:avLst/>
          </a:prstGeom>
          <a:ln w="0">
            <a:noFill/>
          </a:ln>
        </p:spPr>
      </p:pic>
      <p:sp>
        <p:nvSpPr>
          <p:cNvPr id="62" name=""/>
          <p:cNvSpPr/>
          <p:nvPr/>
        </p:nvSpPr>
        <p:spPr>
          <a:xfrm>
            <a:off x="0" y="0"/>
            <a:ext cx="8975880" cy="6129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لمتك مصباح لخطاي</a:t>
            </a:r>
            <a:r>
              <a:rPr b="1" lang="en-US" sz="3600" spc="-1" strike="noStrike">
                <a:solidFill>
                  <a:srgbClr val="ffffff"/>
                </a:solidFill>
                <a:latin typeface="Arial"/>
              </a:rPr>
              <a:t>                           </a:t>
            </a:r>
            <a:r>
              <a:rPr b="1" lang="ar-SA" sz="3600" spc="-1" strike="noStrike">
                <a:solidFill>
                  <a:srgbClr val="ffffff"/>
                </a:solidFill>
                <a:latin typeface="Arial"/>
              </a:rPr>
              <a:t>ونور لسبيلي</a:t>
            </a:r>
            <a:r>
              <a:rPr b="1" lang="en-US" sz="3600" spc="-1" strike="noStrike">
                <a:solidFill>
                  <a:srgbClr val="ffffff"/>
                </a:solidFill>
                <a:latin typeface="Arial"/>
              </a:rPr>
              <a:t>  </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كان من الله</a:t>
            </a:r>
            <a:r>
              <a:rPr b="1" lang="en-US" sz="3600" spc="-1" strike="noStrike">
                <a:solidFill>
                  <a:srgbClr val="ffffff"/>
                </a:solidFill>
                <a:latin typeface="Arial"/>
              </a:rPr>
              <a:t>                                    </a:t>
            </a:r>
            <a:r>
              <a:rPr b="1" lang="ar-SA" sz="3600" spc="-1" strike="noStrike">
                <a:solidFill>
                  <a:srgbClr val="ffffff"/>
                </a:solidFill>
                <a:latin typeface="Arial"/>
              </a:rPr>
              <a:t>سمع كلام الله</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ذا ثبتم بكلامي صرتم حقا تلاميذي</a:t>
            </a:r>
            <a:r>
              <a:rPr b="1" lang="en-US" sz="3600" spc="-1" strike="noStrike">
                <a:solidFill>
                  <a:srgbClr val="000000"/>
                </a:solidFill>
                <a:latin typeface="Arial"/>
              </a:rPr>
              <a:t>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السماء والأرض</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تزولان وكلامي لا يزول</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0" y="195120"/>
            <a:ext cx="8854920" cy="94208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نــوايا </a:t>
            </a:r>
            <a:r>
              <a:rPr b="1" lang="ar-SA" sz="3600" spc="-1" strike="noStrike">
                <a:solidFill>
                  <a:srgbClr val="ffffff"/>
                </a:solidFill>
                <a:latin typeface="Arial"/>
              </a:rPr>
              <a:t>:         يتلوها </a:t>
            </a:r>
            <a:r>
              <a:rPr b="1" lang="ar-SA" sz="3600" spc="-1" strike="noStrike">
                <a:solidFill>
                  <a:srgbClr val="ffffff"/>
                </a:solidFill>
                <a:latin typeface="Arial"/>
              </a:rPr>
              <a:t>3</a:t>
            </a:r>
            <a:r>
              <a:rPr b="1" lang="ar-SA" sz="3600" spc="-1" strike="noStrike">
                <a:solidFill>
                  <a:srgbClr val="ffffff"/>
                </a:solidFill>
                <a:latin typeface="Arial"/>
              </a:rPr>
              <a:t>  أفراد من  العائلة</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كل الأشخاص البعيدين عنك، ألهِمهم بروحِك القدوس كي يعودوا عن ضلالِهم</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نسألك يارب</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جماعتك الحاضرة أمامَك، إجعلها يارب، أن تُظهِرَ للعالم أنك الإله المخلِّص بمحبّتِها وعطائها الدائم في قلب الكنيس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عطنا يارب، في هذا الزمن المبارك، زمن الصوم، أن نفكّرَ بالمريض والفقير والحزين والجائع. علّمنا أن نحمِلَ البسمة إليهم ونزرعَ الرجاءَ في قلوبِهم.   </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228600" y="119160"/>
            <a:ext cx="877896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اجاة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ين يديك يا يسوع، نضعُ قلوبنا وعقولَنا وذواتِنا بكلّيتها، فاملُك علينا وحدك، واجعلنا نحبّك حبّاً لا حدود له. أعطِنا في هذا الصوم، أن نتجدّدَ من الداخل، فلا نمتنع عن الأكل والشرب فقط، بل أن نحبَّ الآخر كما هو، أن نراك فيه، متألّماً أو فَرِحاً. يسوع، حياتُنا لك، ومن أجلك، دَعْ نورَك ينير أيامَنا وطريقَنا، فلا نحيا إلاّ لكَ</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متَ وتألّمتَ من أجلنا، لتعطيَنا الحياة والقيامة، فاجعلنا أهلاً لهذه الحياة الجديدة ، ولك الشكر والتسبيح الى الأب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دقيقة صمت</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102240" y="762120"/>
            <a:ext cx="9373320" cy="5031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 يا رب الأكوان إليك رفعتُ صل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ا إن أحيا فبالإيمان يشرّف معنى حي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سمعتُ نداءك يا ربي   يجلجل في أعماق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دًى يتجاوب في قلبي مع النغَم الخفّ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سرتُ بهَديِك في دربي وبي ظمأ المشت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مَنهلِك الصافي العَذْبِ أُروِّي به أمنياتي</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1143000" y="1828800"/>
            <a:ext cx="7407360" cy="612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قفة مع الصَّوم</a:t>
            </a:r>
            <a:r>
              <a:rPr b="1" lang="ar-SA" sz="3600" spc="-1" strike="noStrike">
                <a:solidFill>
                  <a:srgbClr val="ffffff"/>
                </a:solidFill>
                <a:latin typeface="Arial"/>
              </a:rPr>
              <a:t>: يتلوها </a:t>
            </a:r>
            <a:r>
              <a:rPr b="1" lang="ar-SA" sz="3600" spc="-1" strike="noStrike">
                <a:solidFill>
                  <a:srgbClr val="ffffff"/>
                </a:solidFill>
                <a:latin typeface="Arial"/>
              </a:rPr>
              <a:t>6</a:t>
            </a:r>
            <a:r>
              <a:rPr b="1" lang="ar-SA" sz="3600" spc="-1" strike="noStrike">
                <a:solidFill>
                  <a:srgbClr val="ffffff"/>
                </a:solidFill>
                <a:latin typeface="Arial"/>
              </a:rPr>
              <a:t> من أفراد العائلة</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ي عرس قانا حوّلتَ الماء الى خمر، فعاينَ التلاميذ مجدَك. تباركتَ أيها المسيح، لأنك أعطيتنا خمرة العهد الجديد عربوناً لخمر دمِك المراق في كل ذبيح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762120" y="1905120"/>
            <a:ext cx="7758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مع الأبرص نتوسّل إليك: إن شئتَ فأنت قادرٌ أن تطهّرَنا. علّمنا أن نؤمنَ بقدرتِك الإلهية، وحرّرنا ليس فقط من بَرَصِ الجسد، بل من برَصِ الخطيئة التي تُميتُ وتُهلِك</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685800" y="1109520"/>
            <a:ext cx="74073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مع النازفة الواثقة من رحمة الله بلمسة الرداء، لتفيضَ فيها الصحة والحياة. قوِّنا لنجعلَ الرجاء فينا أقوى من كل عاهةٍ أو إعاق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80880" y="576360"/>
            <a:ext cx="83217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يا إلهاً لا يستطيع إلاّ أن يكونَ أباً، أعطنا أن نكون امتداد أبوَّتِك فنعودَ اليك مع الإبن الشاطر ونقول</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يا أبتِ، قد خطِئتُ الى السماء وإليك، ولا أستحق أن أدعى لك ابناً</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581280" y="0"/>
            <a:ext cx="5562720" cy="6858000"/>
          </a:xfrm>
          <a:prstGeom prst="rect">
            <a:avLst/>
          </a:prstGeom>
          <a:ln w="0">
            <a:noFill/>
          </a:ln>
        </p:spPr>
      </p:pic>
      <p:sp>
        <p:nvSpPr>
          <p:cNvPr id="43"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533520" y="652320"/>
            <a:ext cx="824544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غفرتَ للمخلّع وقوّيتَ عزمَه، فقام وحمل فراشه.  تعال يا يسوع، واصرخ فينا اليوم، لنقفَ ونستمرَّ واجعلنا على مثال الأربعة الذين حملوا المخلّع، جماعة متكاتفة، واحدة بالمحبة والإيمان</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04920" y="576360"/>
            <a:ext cx="8397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رْ يا رب عيونَنا لنبصر، أسقِط الغشاوة عن قلوبنا، وكما صرخ الأعمى:"يا ابن داوود ارحمني، أريد أن أبصِر" أعطنا يا يسوع نعمة البصَر والبصيرة فنستنير على دروب النور الذي هو أنت</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685800" y="576360"/>
            <a:ext cx="7940520" cy="283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ك</a:t>
            </a:r>
            <a:r>
              <a:rPr b="1" lang="ar-SA" sz="3600" spc="-1" strike="noStrike">
                <a:solidFill>
                  <a:srgbClr val="ffffff"/>
                </a:solidFill>
                <a:latin typeface="Arial"/>
              </a:rPr>
              <a:t>.      أللهم، قدّس صومَنا، وأهّلنا أن نكون من أبناء الملكوت في أجواق العرس السماوي ، ولك الشكر والتسبيح أيها الآب والإبن والروح القدس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1718280" y="1752480"/>
            <a:ext cx="5841000" cy="3751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ff"/>
                </a:solidFill>
                <a:uFillTx/>
                <a:latin typeface="Arial"/>
              </a:rPr>
              <a:t>زياح قلب يسوع</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rPr>
              <a:t>الورقة المرفقة</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609480" y="576360"/>
            <a:ext cx="755964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صلاة الشكر</a:t>
            </a:r>
            <a:r>
              <a:rPr b="1" lang="ar-SA" sz="3600" spc="-1" strike="noStrike" u="sng">
                <a:solidFill>
                  <a:srgbClr val="ffffff"/>
                </a:solidFill>
                <a:uFillTx/>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يتلوها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آب المُحِب مصدرُ كل حيا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إبن الفادي،  الذي منحَنا الخلاص بدمه على الصليب، ونقلَنا من الموت الى الحياة، ومن الخطيئة لى النعم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روح القدس، يا من تساعدنا وتدبّر شؤونَنا وتُلهمُنا لنبقى دائماً في يقظةٍ روحية، فتقبّل منا صومَنا المتواضع وصلاتَنا ومحبّتَنا مدى الدهر.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0" y="-33480"/>
            <a:ext cx="9083520" cy="777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فعل تكريس لقلب يسوع الأقدس</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ننا نهب أنفسَنا لقلب سيدنا يسوع المسيح الأقدس، ونكرّس له ذواتَنا وحياتَنا وأعمالَنا، وأحزانَنا وآلامَنا كي لا يبقى فينا شيء إلاّ إكرامَه وحبَّه وتمجيدَه. إننا نريد إرادةَ ثابتة، لا رجوع عنها، أن نكون بكُلّيتنا له ، ونصرفَ كلَّ أعمالنا لحبِّه، وننبُذَ كل ما لا يريده. فكن إذن، أيها القلب الأقدس، موضوع حبِّنا الوحيد، ومحامياً عن حياتنا وضامناً لخلاصنا، ومقَوّياً لضعفنا ومطهِّراً ومنقّياً لهفواتنا وملجأً أكيداً لنا عند ساعة موتنا. كن أيها القلب الأقدس مبرِّراً لنا عند الله الآب، أبعِد عنا سهام غضبِك العاد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762120" y="1371600"/>
            <a:ext cx="81691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يها القلب المحِب والمحبوب، إننا نضع فيك كل رجائنا، لأننا نخشى كثيراً من ضعفنا، ونترجّى الكثير من جودك وصلاحك. أبعد عنا كل ما لا يرضيك، واملُك على قلوبنا بواسطة حبِّك الطاهر، مُلكاً لا يمكننا معه أن ننساك أو ننفصلَ عنك. نستحلفك بلهيب حبِّك أن تكون أسماؤنا مرسومةً فيك لأننا نريد أن تكون أنت سعادتنا وغبطتنا وأن نحيا ونموت في خدمتك. آميـــ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152280" y="4237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ختــــــا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بخّر الكاهن القربان بينما تنشد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قدوس، قدوس</a:t>
            </a:r>
            <a:r>
              <a:rPr b="1" lang="en-US" sz="3600" spc="-1" strike="noStrike">
                <a:solidFill>
                  <a:srgbClr val="ffffff"/>
                </a:solidFill>
                <a:latin typeface="Arial"/>
              </a:rPr>
              <a:t>…</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رحمنا أيها الرب الإله الضابط الكل ، إرحم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ك نسبّح، لك نمجّد، لك نبارك، لك نسجد وبك نعترف</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نصلِّ مرة أبانا وسلام والمجد كي تبقى عائلة قلب يسوع شاهدة للمسيح في رسالته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ترتيل</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لك شكرنا لك حبنا لك قلبنا  نحن لك كلنا يا يسوع ر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ارك واحفظ أهلنا، كلَّ من يُعنى 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استجب ربي سؤلَنا</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733920" y="0"/>
            <a:ext cx="5440320" cy="6858000"/>
          </a:xfrm>
          <a:prstGeom prst="rect">
            <a:avLst/>
          </a:prstGeom>
          <a:ln w="0">
            <a:noFill/>
          </a:ln>
        </p:spPr>
      </p:pic>
      <p:sp>
        <p:nvSpPr>
          <p:cNvPr id="45" name=""/>
          <p:cNvSpPr/>
          <p:nvPr/>
        </p:nvSpPr>
        <p:spPr>
          <a:xfrm>
            <a:off x="0" y="0"/>
            <a:ext cx="3505320" cy="943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Simplified Arabic"/>
              </a:rPr>
              <a:t>  </a:t>
            </a:r>
            <a:r>
              <a:rPr b="1" lang="ar-SA" sz="4800" spc="-1" strike="noStrike">
                <a:solidFill>
                  <a:srgbClr val="ccecff"/>
                </a:solidFill>
                <a:latin typeface="Times New Roman"/>
                <a:cs typeface="Simplified Arabic"/>
              </a:rPr>
              <a:t>من عُمـقِ آثامـي دعـوتْ</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أنصِتْ الى صوتِ </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دعـــاي</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أنا غيرَ وجهِـك ما رجـوتْ</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ملقاهُ مأدبــةُ رجــــا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581280" y="0"/>
            <a:ext cx="5562720" cy="6858000"/>
          </a:xfrm>
          <a:prstGeom prst="rect">
            <a:avLst/>
          </a:prstGeom>
          <a:ln w="0">
            <a:noFill/>
          </a:ln>
        </p:spPr>
      </p:pic>
      <p:sp>
        <p:nvSpPr>
          <p:cNvPr id="4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733920" y="0"/>
            <a:ext cx="7619760" cy="6858000"/>
          </a:xfrm>
          <a:prstGeom prst="rect">
            <a:avLst/>
          </a:prstGeom>
          <a:ln w="0">
            <a:noFill/>
          </a:ln>
        </p:spPr>
      </p:pic>
      <p:sp>
        <p:nvSpPr>
          <p:cNvPr id="49" name=""/>
          <p:cNvSpPr/>
          <p:nvPr/>
        </p:nvSpPr>
        <p:spPr>
          <a:xfrm>
            <a:off x="0" y="0"/>
            <a:ext cx="35812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a:t>
            </a:r>
            <a:endParaRPr b="0" lang="en-US" sz="2400" spc="-1" strike="noStrike">
              <a:solidFill>
                <a:srgbClr val="000000"/>
              </a:solidFill>
              <a:latin typeface="Arial"/>
            </a:endParaRPr>
          </a:p>
        </p:txBody>
      </p:sp>
      <p:sp>
        <p:nvSpPr>
          <p:cNvPr id="50" name=""/>
          <p:cNvSpPr/>
          <p:nvPr/>
        </p:nvSpPr>
        <p:spPr>
          <a:xfrm>
            <a:off x="0" y="0"/>
            <a:ext cx="3581280" cy="1417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هبْ من حنانِك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قطر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يتحـوّلُ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القفرُ وعود</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أو أعطِ عينيَ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دمعــ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في </a:t>
            </a:r>
            <a:r>
              <a:rPr b="1" lang="en-US" sz="4800" spc="-1" strike="noStrike">
                <a:solidFill>
                  <a:srgbClr val="ffffcc"/>
                </a:solidFill>
                <a:latin typeface="Times New Roman"/>
                <a:ea typeface="Times New Roman"/>
              </a:rPr>
              <a:t>     </a:t>
            </a:r>
            <a:r>
              <a:rPr b="1" lang="ar-SA" sz="4800" spc="-1" strike="noStrike">
                <a:solidFill>
                  <a:srgbClr val="ffffcc"/>
                </a:solidFill>
                <a:latin typeface="Times New Roman"/>
                <a:cs typeface="Times New Roman"/>
              </a:rPr>
              <a:t>حوضها طفـلاً                                                                                                                                                                                                              أعـود</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81280" y="0"/>
            <a:ext cx="5562720" cy="6858000"/>
          </a:xfrm>
          <a:prstGeom prst="rect">
            <a:avLst/>
          </a:prstGeom>
          <a:ln w="0">
            <a:noFill/>
          </a:ln>
        </p:spPr>
      </p:pic>
      <p:sp>
        <p:nvSpPr>
          <p:cNvPr id="52"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581280" y="0"/>
            <a:ext cx="5562720" cy="6858000"/>
          </a:xfrm>
          <a:prstGeom prst="rect">
            <a:avLst/>
          </a:prstGeom>
          <a:ln w="0">
            <a:noFill/>
          </a:ln>
        </p:spPr>
      </p:pic>
      <p:sp>
        <p:nvSpPr>
          <p:cNvPr id="54" name=""/>
          <p:cNvSpPr/>
          <p:nvPr/>
        </p:nvSpPr>
        <p:spPr>
          <a:xfrm>
            <a:off x="0" y="609480"/>
            <a:ext cx="3581280" cy="9058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واذا استبـدَّ بيَ                            الخجلْ أو أبكمَ العارُ فمــي</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بضاتُ حُبِّـك فلتـَزَلْ</a:t>
            </a:r>
            <a:r>
              <a:rPr b="1" lang="ar-SA"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حتـى النهايــةِ في د</a:t>
            </a:r>
            <a:r>
              <a:rPr b="1" lang="ar-SA" sz="4800" spc="-1" strike="noStrike">
                <a:solidFill>
                  <a:srgbClr val="ffffcc"/>
                </a:solidFill>
                <a:latin typeface="Times New Roman"/>
                <a:cs typeface="Simplified Arabic"/>
              </a:rPr>
              <a:t>مي</a:t>
            </a:r>
            <a:r>
              <a:rPr b="0" lang="ar-SA" sz="2400" spc="-1" strike="noStrike">
                <a:solidFill>
                  <a:srgbClr val="ffffcc"/>
                </a:solidFill>
                <a:latin typeface="Times New Roman"/>
                <a:ea typeface="Times New Roman"/>
              </a:rPr>
              <a:t> </a:t>
            </a:r>
            <a:endParaRPr b="0" lang="en-US" sz="2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81280" y="0"/>
            <a:ext cx="5562720" cy="6858000"/>
          </a:xfrm>
          <a:prstGeom prst="rect">
            <a:avLst/>
          </a:prstGeom>
          <a:ln w="0">
            <a:noFill/>
          </a:ln>
        </p:spPr>
      </p:pic>
      <p:sp>
        <p:nvSpPr>
          <p:cNvPr id="5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33480"/>
            <a:ext cx="9236160" cy="9969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من إنجيل ربنا يسوع المسيح للقديس متى ، فلنصغِ لبشارة الحياة والخلاص لنفوسنا (متى </a:t>
            </a:r>
            <a:r>
              <a:rPr b="1" lang="ar-SA" sz="3600" spc="-1" strike="noStrike">
                <a:solidFill>
                  <a:srgbClr val="ffffff"/>
                </a:solidFill>
                <a:latin typeface="Arial"/>
              </a:rPr>
              <a:t>4:1</a:t>
            </a:r>
            <a:r>
              <a:rPr b="1" lang="ar-SA" sz="3600" spc="-1" strike="noStrike">
                <a:solidFill>
                  <a:srgbClr val="ffffff"/>
                </a:solidFill>
                <a:latin typeface="Arial"/>
              </a:rPr>
              <a:t>-</a:t>
            </a:r>
            <a:r>
              <a:rPr b="1" lang="ar-SA" sz="3600" spc="-1" strike="noStrike">
                <a:solidFill>
                  <a:srgbClr val="ffffff"/>
                </a:solidFill>
                <a:latin typeface="Arial"/>
              </a:rPr>
              <a:t>11</a:t>
            </a:r>
            <a:r>
              <a:rPr b="1" lang="ar-SA" sz="3600" spc="-1" strike="noStrike">
                <a:solidFill>
                  <a:srgbClr val="ffffff"/>
                </a:solidFill>
                <a:latin typeface="Arial"/>
              </a:rPr>
              <a:t> ) - وقوف</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ثم أُصعِد يسوع الى البرّية من الروح ليُجَرَّب من إبليس. فبعدما صام أربعين نهاراً وأربعين ليلة، جاع أخير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تقدّم إليه المجرِّب وقال له:" إن كنتَ ابن الله فَقُلْ أن تصير هذه الحجارة خبزاً " فأجاب يسوع:" مكتوب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إبليس الى المدينة المقدسة وأوقفه على جناح الهيكل وقال له:" إن كنتَ ابن الله ، فألقِ بنفسك الى أسفل لأنه مكتوب أنه يوصي ملائكته بك، فيحملونك على أياديهم لئلا تصطدم بحجر رجلك" فقال يسوع: " مكتوب أيضاً لا تجرّبنَّ الرب إلهك</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3:52:24Z</dcterms:created>
  <dc:creator>HANI SAFI</dc:creator>
  <dc:description/>
  <dc:language>en-US</dc:language>
  <cp:lastModifiedBy>HANI SAFI</cp:lastModifiedBy>
  <dcterms:modified xsi:type="dcterms:W3CDTF">2003-04-05T16:27:53Z</dcterms:modified>
  <cp:revision>2</cp:revision>
  <dc:subject/>
  <dc:title>Slide 1</dc:title>
</cp:coreProperties>
</file>